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4D2CA-8341-47D0-9E71-E061DE0DF8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41902-15A3-4721-A6FE-BB7259D8C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005FF-C817-4BF3-BC82-C121D68E2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82AF9-AA28-4245-BF97-DF29B4B4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98701-D59E-4F7C-98AD-B1B4B7D6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C02CE-23E2-4524-8EE6-AFDD74FA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2C420-15CD-4004-9365-E91C3F95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1652A-6F8D-46B5-8888-681328F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81AFD-C6D1-45CB-992D-C4DE57B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397EF-554A-464C-9B6E-FEB01B5E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D9295-08CD-4F1B-B38A-17F0E59B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1F961-208C-48DB-9B6C-F0A632D2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8DA32-B9EC-42DB-9847-B61E73E7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C6BD2-DC19-446F-BD23-04B6D3B3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AAA9B-B8AD-467F-ABAF-0A91EE32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17C1C-7723-4F98-8CBE-01C6AD57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B89D9-A9CA-40D5-AB14-4619EF91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496D0-2421-41AD-8C5A-AE72A6FF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749E8-38D9-465B-A7F4-8FB8E492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858B2-CE3C-4041-B66B-034D753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D3776-409C-48C3-8279-BBA2AE1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6DE4B-13DF-4156-A8AA-166413D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B0ADE-6311-441D-AECA-D015F4D5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02B6D-4CF1-43B6-BFA2-4E8F9F65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CFD356-D279-476E-96DA-D3BF25DF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C84987-D72B-4188-A005-DBFE47D2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83C18F-5E0E-4B7E-A492-ECFC9171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3CE979-DEBC-4A75-9019-549DCD3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619934-A492-462B-AE11-30211C1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E2E4CA-EC9B-4B12-8304-6F50A2A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2F7AE6-70D5-4606-B604-575C5DEB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5CEA66-6519-4CAE-930E-DC65182E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2A874-1A8A-49AF-A7B6-73B89F0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A36EB-0ED9-4185-B275-903213B9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3EC0AE-328B-4F48-B17B-2F9E06D0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606F88-1FDD-4250-9E80-FA8FAD9A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A6388A-2694-4BA0-A020-3BAA1871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19656-A08C-45EE-A20B-3023E3BA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4DF6B-525F-444D-9AE3-2E6FD8C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1A5A1-8AC7-4BE5-A362-80AA05C4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B95E5-87CC-4ADD-9FD7-043ACF36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CB365-7174-4673-8927-8CF4456F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92150-D90B-41FB-81CD-6C92DD08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10310-BB5F-4BEF-8103-93A2524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7B063-A27A-4878-AE10-4F00DD1E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2DD57-33A4-4F93-9140-EF976BB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38EBE-3D2A-4D46-ADB8-2948244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01E22-DAA5-4E64-B74B-9DB9998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217ED-354F-4DBC-9291-5B7641FC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093E6-0934-48FF-8EB9-476C346E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4CA3-4ECA-4D71-8DA5-5E21CA63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1A30-E3CB-4C31-9E69-F8F4D85A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BF917-87A1-4DB4-BC6B-2823C085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B2ADF-DE68-418B-8426-F11908B4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D0419-07C9-4C86-B95F-CF8FA1A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5DAD3-E738-46BE-A6A8-08B88C50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3929-6DE0-4F73-A46A-8DD4D676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16525-FBEA-4C23-A848-981E009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3F053-4545-4A66-9719-CEAEEB35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0D84B-4532-49FC-AED2-A4E77357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FDBEA-7EE8-49C3-9846-464B8BAA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ECD44-9D0D-45BA-9B33-9C13531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3A4D6-09DB-4CD6-8007-6F7B8B38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A2620-CF6E-44E5-A21F-DF43D175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B10AB-58B8-41CD-9BBC-A83F4A3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F986D-008E-4DA4-B345-2703650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1EB5B-B224-4745-8C82-FBD5FBD5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F27FC-3C2B-4F4C-8F8D-6BCF462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1B834-0B3F-4B74-9595-9FBF220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46FC3-A9D8-4C46-9C36-FB2393E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2B316-D184-47AE-8520-DDE0927B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21F1D-43DA-4612-9F05-61C19420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4092C-22EE-4A03-9394-F4838863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30581-0533-40C4-B541-B035FC2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C6594-DD67-46FC-B847-E52FEFCE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5619C-4EA3-432E-8C44-256889B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F6A44-3ED5-48C2-B028-4F479B8D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AF9C7-1624-416B-88FD-C3F033A2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77713-481C-4D91-AE99-DD6EA2A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A0307-6901-471E-927C-1F68FC4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649A1-0076-4BEB-86B7-0104DC5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1A6B9-3A84-4C80-B2BC-CFFBEC43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242A4-3B8E-47D5-A853-9E05ABC9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FFA04-A7F9-4DA8-9814-EE2EB837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1B7AF-9E39-4DDA-8BEC-E79E8938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7F7A7-88EB-4F51-A207-EEB34BD7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F5476-61D1-4FB3-914F-C7AA95D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FDDA29-00F7-4D71-8CBA-673179CC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7E731-C799-4AEB-B5AF-41D3D008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F1781-002D-437E-96EF-6DE055B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3B815C-9C46-4A50-96F9-938AA4F5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B232AC-442A-4265-B8BF-6540BCF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B9F35-C759-4478-A0F7-00906EB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75F95-3D78-44AD-940F-11AFEEC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94E93A-A116-4BE7-BD8F-A2952A02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422610-C0D5-4B78-8A92-F3DE30CD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E4A82-FDC1-483F-8497-A763937E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D51ED2-915D-4A59-B575-72A6A0A6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C161AF-D1AE-4A38-A887-8EC91618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679E1-A026-47B1-8CB0-06FF1CF0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319DE-CEE0-4538-A9BE-AD0E34BE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90FF2B-82DC-4C73-BBAC-B1C92A0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F35D4-8368-4482-AEBE-B37CE756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72CF61-4332-4E8A-A6C0-0A68E94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80703B-4A44-4C6B-B326-241B728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05FC8-9213-48E7-A315-B7F169EE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9ADBD-9F35-45D8-94EA-D6183C79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2AF67-C63A-4E75-B050-4370EA35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9597A0-01A4-43D9-9B3E-8671D57D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5153C5-AF2A-40BB-9ACA-3A7CDD23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B6E3D-AD85-453A-A0CF-00A21B0E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BFF06-3ABB-461C-9CE0-A9A6C3E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6F687-BC1D-4017-8064-F7FB851A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2CF048-058A-47DA-9ADD-2EEE8DF1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5EDB7-CCE0-47B1-970D-164375C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72ECA9-78A0-4BDD-B722-5104AE0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BCB606-0294-4199-A63F-CDA86740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F2484-5057-4929-95C4-71C5FC9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E828C5-8249-4049-9323-9F3FF0F8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B802A-C09E-4DBA-A14A-58AA4FB9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4266B-F324-44E4-AFB7-ED4E3581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EFFD35-1167-4FC5-9C82-B799221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FEFFA-F4EF-4D21-910C-C45D000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06918-70AD-4E3A-9A55-C4F4DE1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262A4-C259-4E3A-8285-B46A437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F62EE8-865B-472B-AF9C-AA2D6C9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9CDCB-CC40-44D3-944E-42BEAF9E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060E1-3359-4FD9-9CF5-050EAD3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E7DA4B-821C-4539-A57E-C11839E5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DC8C1-0944-46A9-BC29-DE975F98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2CCF2-2233-484F-A934-D06EE341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675AE6-213C-4870-A69A-E60FE028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5AE69-8990-4418-943D-1D1622FE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64574-FDA6-4591-83AA-C0ECF349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E1589-C984-49E2-B8F6-A6FDC759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iki.esipfed.org/index.php/Air_Quality_Data_Network_Solta_2011" TargetMode="External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hyperlink" Target="mailto:rhusar@wustl.edu" TargetMode="External"/><Relationship Id="rId5" Type="http://schemas.openxmlformats.org/officeDocument/2006/relationships/hyperlink" Target="http://wiki.esipfed.org/index.php/Air_Quality_Data_Network_Solta_2011" TargetMode="External"/><Relationship Id="rId6" Type="http://schemas.openxmlformats.org/officeDocument/2006/relationships/hyperlink" Target="mailto:m.schultz@fz-juelich.d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iki.esipfed.org/index.php/Air_Quality_Data_Network_Solta_2011" TargetMode="Externa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 u="sng">
                <a:solidFill>
                  <a:srgbClr val="0000ff"/>
                </a:solidFill>
                <a:uFillTx/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ee Workshop Wiki for Details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ontacts: Rudolf Husar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rhusar@wustl.ed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; Martin Schultz,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m.schultz@fz-juelich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7" descr=""/>
          <p:cNvPicPr/>
          <p:nvPr/>
        </p:nvPicPr>
        <p:blipFill>
          <a:blip r:embed="rId7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18D7C-33B9-4ECC-A811-33527397BDF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7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41642-C348-413A-90E3-0D9BDF6DFAD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958B9-188B-4D78-B530-60F836EC213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30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87FA4-0975-49D3-B214-A826E8E0B9F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84420-AD3E-4DA0-B52D-4BE34D9E40F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33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37687-1E38-421B-A688-E42157D6080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5F578-EF34-422E-8F24-87CDE721666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23DAB-72AD-472D-8FAA-2C99B7A5E3C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1BADE-B2AB-440F-AD80-721C386E958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6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BF112-55E3-4169-BF81-BA9E205CE46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35A65-60A7-435B-B8F9-8FAD990E43F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9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CBD25-4940-420D-B210-6A2B7B2B34A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8128B-803E-413E-AADA-7931AEB6062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2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2BCD7-47D3-4B46-BF06-7D9B81315D9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179D9-B890-48E9-B94C-FB98888B0C8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5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85B54-BC96-46D3-827F-F4AF3B7E288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0731C-469A-4399-8FCA-86D9F1B0ACB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8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640A6-6E24-4303-8DBB-E29F0560C5A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D601F-AF8F-4741-8330-08799033BF7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21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7B4F3-3290-432C-BCC7-77B98454D30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2F973-7FB6-4876-92BF-C8135B2EECB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4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7847F-380C-4258-BAD2-418FCDDF296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r_Quality_Data_Network_Solta_2011" TargetMode="External"/><Relationship Id="rId2" Type="http://schemas.openxmlformats.org/officeDocument/2006/relationships/hyperlink" Target="mailto:rhusar@wustl.edu" TargetMode="External"/><Relationship Id="rId3" Type="http://schemas.openxmlformats.org/officeDocument/2006/relationships/hyperlink" Target="mailto:m.schultz@fz-juelich.de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ebapps.datafed.net/Core.uFIND" TargetMode="External"/><Relationship Id="rId4" Type="http://schemas.openxmlformats.org/officeDocument/2006/relationships/hyperlink" Target="http://wiki.esipfed.org/index.php/WCS_1.0_1.1_2.0_for_AQ_Network" TargetMode="External"/><Relationship Id="rId5" Type="http://schemas.openxmlformats.org/officeDocument/2006/relationships/hyperlink" Target="http://wiki.esipfed.org/index.php/Streaming_and/or_netCDF_File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wiki.esipfed.org/index.php/Air_Quality_Data_Network_Solta_2011" TargetMode="External"/><Relationship Id="rId9" Type="http://schemas.openxmlformats.org/officeDocument/2006/relationships/hyperlink" Target="mailto:rhusar@wustl.edu" TargetMode="External"/><Relationship Id="rId10" Type="http://schemas.openxmlformats.org/officeDocument/2006/relationships/hyperlink" Target="mailto:m.schultz@fz-juelich.de" TargetMode="External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ing Air Quality Observations and Models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om Virtual to R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84360" y="2895480"/>
            <a:ext cx="4192560" cy="1647000"/>
          </a:xfrm>
          <a:prstGeom prst="rect">
            <a:avLst/>
          </a:prstGeom>
          <a:solidFill>
            <a:srgbClr val="ffffe6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, August 23, 24,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.   AM: Reports of Participants, Net.-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: State of AQ Data Network, 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d.  AM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Technical Realization of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: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chnical Realization of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.  AM: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chnical Realization of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: Outcomes, Nex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2"/>
          <p:cNvSpPr/>
          <p:nvPr/>
        </p:nvSpPr>
        <p:spPr>
          <a:xfrm>
            <a:off x="1762200" y="4919760"/>
            <a:ext cx="51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 23-25, 2011, Stomorska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olta, Croa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0" y="6550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ee Workshop Wiki for Detai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cts: Rudolf Husar,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rhusar@wustl.ed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Martin Schultz, </a:t>
            </a:r>
            <a:r>
              <a:rPr b="0" lang="de-DE" sz="11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m.schultz@fz-juelich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6"/>
          <p:cNvSpPr/>
          <p:nvPr/>
        </p:nvSpPr>
        <p:spPr>
          <a:xfrm>
            <a:off x="5486400" y="2895480"/>
            <a:ext cx="2438280" cy="1616400"/>
          </a:xfrm>
          <a:prstGeom prst="rect">
            <a:avLst/>
          </a:prstGeom>
          <a:solidFill>
            <a:srgbClr val="ff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30 Participants               ~20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NR, DHZ, DLR, EEA, EnvCanada, USEPA, FZ Juelich, GEO, JRC, MetNO, NASA, NGC, NILU, NOAA, NPS, RSIG, STI, UNIDATA, WUSt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380880" y="2133720"/>
            <a:ext cx="8153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actitioners from Europe and North America will assess the current state of the network, address key issues, share best practices and work on turning the network from virtual to re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4"/>
          <a:stretch/>
        </p:blipFill>
        <p:spPr>
          <a:xfrm>
            <a:off x="1762200" y="5257800"/>
            <a:ext cx="1743120" cy="109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Picture 15" descr=""/>
          <p:cNvPicPr/>
          <p:nvPr/>
        </p:nvPicPr>
        <p:blipFill>
          <a:blip r:embed="rId5"/>
          <a:stretch/>
        </p:blipFill>
        <p:spPr>
          <a:xfrm>
            <a:off x="3505320" y="5257800"/>
            <a:ext cx="1743120" cy="11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Picture 16" descr=""/>
          <p:cNvPicPr/>
          <p:nvPr/>
        </p:nvPicPr>
        <p:blipFill>
          <a:blip r:embed="rId6"/>
          <a:srcRect l="13984" t="2125" r="693" b="14690"/>
          <a:stretch/>
        </p:blipFill>
        <p:spPr>
          <a:xfrm>
            <a:off x="5248440" y="5273640"/>
            <a:ext cx="1701720" cy="11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3"/>
          <p:cNvGrpSpPr/>
          <p:nvPr/>
        </p:nvGrpSpPr>
        <p:grpSpPr>
          <a:xfrm>
            <a:off x="317520" y="2003400"/>
            <a:ext cx="3035160" cy="1693800"/>
            <a:chOff x="317520" y="2003400"/>
            <a:chExt cx="3035160" cy="1693800"/>
          </a:xfrm>
        </p:grpSpPr>
        <p:pic>
          <p:nvPicPr>
            <p:cNvPr id="509" name="Picture 8" descr=""/>
            <p:cNvPicPr/>
            <p:nvPr/>
          </p:nvPicPr>
          <p:blipFill>
            <a:blip r:embed="rId1"/>
            <a:stretch/>
          </p:blipFill>
          <p:spPr>
            <a:xfrm>
              <a:off x="317520" y="2003400"/>
              <a:ext cx="303516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Rectangle 1"/>
            <p:cNvSpPr/>
            <p:nvPr/>
          </p:nvSpPr>
          <p:spPr>
            <a:xfrm>
              <a:off x="2870280" y="283356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2567160" y="274932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1957320" y="233172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1944720" y="219204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663480" y="244296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1373040" y="3419640"/>
              <a:ext cx="75960" cy="824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1095120" y="2354040"/>
              <a:ext cx="75960" cy="824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Box 9"/>
          <p:cNvSpPr/>
          <p:nvPr/>
        </p:nvSpPr>
        <p:spPr>
          <a:xfrm>
            <a:off x="317520" y="2865600"/>
            <a:ext cx="303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 Data Network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Active AQ WCS Serv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Near-Term New WCS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317520" y="3913200"/>
            <a:ext cx="3035160" cy="172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9" name="TextBox 9"/>
          <p:cNvSpPr/>
          <p:nvPr/>
        </p:nvSpPr>
        <p:spPr>
          <a:xfrm>
            <a:off x="317520" y="4446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AQ Data Network Catalog -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3691080" y="1776240"/>
            <a:ext cx="2570040" cy="2589120"/>
          </a:xfrm>
          <a:prstGeom prst="rect">
            <a:avLst/>
          </a:prstGeom>
          <a:solidFill>
            <a:srgbClr val="d78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rver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4"/>
              </a:rPr>
              <a:t>WCS version 1.0, 1.1.2, 2.0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ing WMS, WFS, WC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for Different Data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 data (model, emiss., sat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-Station (surf. Netw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data typ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Maintenance-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Forge, Docum. Gui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 code govern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Performan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te access or ca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5"/>
              </a:rPr>
              <a:t>Streaming vs file transf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TextBox 19" descr=""/>
          <p:cNvPicPr/>
          <p:nvPr/>
        </p:nvPicPr>
        <p:blipFill>
          <a:blip r:embed="rId6"/>
          <a:stretch/>
        </p:blipFill>
        <p:spPr>
          <a:xfrm>
            <a:off x="6443640" y="2048040"/>
            <a:ext cx="2584440" cy="19936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0"/>
          <p:cNvSpPr/>
          <p:nvPr/>
        </p:nvSpPr>
        <p:spPr>
          <a:xfrm>
            <a:off x="3691080" y="4457880"/>
            <a:ext cx="2570040" cy="2300040"/>
          </a:xfrm>
          <a:prstGeom prst="rect">
            <a:avLst/>
          </a:prstGeom>
          <a:solidFill>
            <a:srgbClr val="d78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Network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Network Design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-interop. bal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atalog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Q Community Cata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ain/Application Catalog(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Metadata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 metadata for A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, quality, secur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 Operation, Mainten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vernance, Legitima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TextBox 21" descr=""/>
          <p:cNvPicPr/>
          <p:nvPr/>
        </p:nvPicPr>
        <p:blipFill>
          <a:blip r:embed="rId7"/>
          <a:stretch/>
        </p:blipFill>
        <p:spPr>
          <a:xfrm>
            <a:off x="6443640" y="4535640"/>
            <a:ext cx="2584440" cy="3222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6"/>
          <p:cNvSpPr/>
          <p:nvPr/>
        </p:nvSpPr>
        <p:spPr>
          <a:xfrm>
            <a:off x="317520" y="1025640"/>
            <a:ext cx="87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Focu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chnical Realization of AQ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0" y="6550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See Workshop Wiki for Detai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cts: Rudolf Husar,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husar@wustl.ed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Martin Schultz, </a:t>
            </a:r>
            <a:r>
              <a:rPr b="0" lang="de-DE" sz="11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m.schultz@fz-juelich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228600" y="16034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Data Network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0"/>
          <p:cNvSpPr/>
          <p:nvPr/>
        </p:nvSpPr>
        <p:spPr>
          <a:xfrm>
            <a:off x="6261120" y="1673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Network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Down Arrow 3"/>
          <p:cNvSpPr/>
          <p:nvPr/>
        </p:nvSpPr>
        <p:spPr>
          <a:xfrm>
            <a:off x="4114800" y="1374840"/>
            <a:ext cx="152280" cy="35244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own Arrow 22"/>
          <p:cNvSpPr/>
          <p:nvPr/>
        </p:nvSpPr>
        <p:spPr>
          <a:xfrm>
            <a:off x="5562720" y="1401840"/>
            <a:ext cx="152280" cy="35244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Notched Right Arrow 41"/>
          <p:cNvSpPr/>
          <p:nvPr/>
        </p:nvSpPr>
        <p:spPr>
          <a:xfrm>
            <a:off x="5653080" y="4965840"/>
            <a:ext cx="2063880" cy="536400"/>
          </a:xfrm>
          <a:custGeom>
            <a:avLst/>
            <a:gdLst>
              <a:gd name="textAreaLeft" fmla="*/ 133920 w 2063880"/>
              <a:gd name="textAreaRight" fmla="*/ 1929960 w 2063880"/>
              <a:gd name="textAreaTop" fmla="*/ 133920 h 536400"/>
              <a:gd name="textAreaBottom" fmla="*/ 402480 h 536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92" y="5400"/>
                </a:lnTo>
                <a:lnTo>
                  <a:pt x="18792" y="0"/>
                </a:lnTo>
                <a:lnTo>
                  <a:pt x="21600" y="10800"/>
                </a:lnTo>
                <a:lnTo>
                  <a:pt x="18792" y="21600"/>
                </a:lnTo>
                <a:lnTo>
                  <a:pt x="18792" y="16200"/>
                </a:lnTo>
                <a:lnTo>
                  <a:pt x="0" y="16200"/>
                </a:lnTo>
                <a:lnTo>
                  <a:pt x="140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Notched Right Arrow 40"/>
          <p:cNvSpPr/>
          <p:nvPr/>
        </p:nvSpPr>
        <p:spPr>
          <a:xfrm>
            <a:off x="5635800" y="3193920"/>
            <a:ext cx="2081160" cy="536760"/>
          </a:xfrm>
          <a:custGeom>
            <a:avLst/>
            <a:gdLst>
              <a:gd name="textAreaLeft" fmla="*/ 133920 w 2081160"/>
              <a:gd name="textAreaRight" fmla="*/ 1947240 w 208116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16" y="5400"/>
                </a:ln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18816" y="16200"/>
                </a:lnTo>
                <a:lnTo>
                  <a:pt x="0" y="16200"/>
                </a:lnTo>
                <a:lnTo>
                  <a:pt x="139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Notched Right Arrow 3"/>
          <p:cNvSpPr/>
          <p:nvPr/>
        </p:nvSpPr>
        <p:spPr>
          <a:xfrm>
            <a:off x="1663560" y="4224240"/>
            <a:ext cx="1994040" cy="536760"/>
          </a:xfrm>
          <a:custGeom>
            <a:avLst/>
            <a:gdLst>
              <a:gd name="textAreaLeft" fmla="*/ 133920 w 1994040"/>
              <a:gd name="textAreaRight" fmla="*/ 1860120 w 199404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94" y="5400"/>
                </a:lnTo>
                <a:lnTo>
                  <a:pt x="18694" y="0"/>
                </a:lnTo>
                <a:lnTo>
                  <a:pt x="21600" y="10800"/>
                </a:lnTo>
                <a:lnTo>
                  <a:pt x="18694" y="21600"/>
                </a:lnTo>
                <a:lnTo>
                  <a:pt x="18694" y="16200"/>
                </a:lnTo>
                <a:lnTo>
                  <a:pt x="0" y="16200"/>
                </a:lnTo>
                <a:lnTo>
                  <a:pt x="145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8"/>
          <p:cNvSpPr/>
          <p:nvPr/>
        </p:nvSpPr>
        <p:spPr>
          <a:xfrm>
            <a:off x="7716960" y="2600280"/>
            <a:ext cx="1282680" cy="3297240"/>
          </a:xfrm>
          <a:prstGeom prst="rect">
            <a:avLst/>
          </a:prstGeom>
          <a:gradFill rotWithShape="0">
            <a:gsLst>
              <a:gs pos="0">
                <a:srgbClr val="006700"/>
              </a:gs>
              <a:gs pos="100000">
                <a:srgbClr val="ffffff"/>
              </a:gs>
            </a:gsLst>
            <a:lin ang="99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233280" y="2600280"/>
            <a:ext cx="1273320" cy="336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372960" y="4362480"/>
            <a:ext cx="99396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341280" y="3511440"/>
            <a:ext cx="982800" cy="52884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37" name="Picture 6" descr=""/>
          <p:cNvPicPr/>
          <p:nvPr/>
        </p:nvPicPr>
        <p:blipFill>
          <a:blip r:embed="rId3"/>
          <a:stretch/>
        </p:blipFill>
        <p:spPr>
          <a:xfrm>
            <a:off x="353880" y="270504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5680" y="1247760"/>
            <a:ext cx="8913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main contributors to the AQ Network are members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1800" spc="-1" strike="noStrike">
                <a:solidFill>
                  <a:srgbClr val="d05300"/>
                </a:solidFill>
                <a:latin typeface="Verdana"/>
                <a:ea typeface="Verdana"/>
              </a:rPr>
              <a:t>Integrating Initiatives/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128520" y="180648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Earth Ob-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" descr=""/>
          <p:cNvPicPr/>
          <p:nvPr/>
        </p:nvPicPr>
        <p:blipFill>
          <a:blip r:embed="rId4"/>
          <a:stretch/>
        </p:blipFill>
        <p:spPr>
          <a:xfrm>
            <a:off x="372960" y="520056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41" name="TextBox 2"/>
          <p:cNvSpPr/>
          <p:nvPr/>
        </p:nvSpPr>
        <p:spPr>
          <a:xfrm>
            <a:off x="1889280" y="2506680"/>
            <a:ext cx="1044360" cy="329076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CIE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E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M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CD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ir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Q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D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G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R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++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1"/>
          <p:cNvSpPr/>
          <p:nvPr/>
        </p:nvSpPr>
        <p:spPr>
          <a:xfrm>
            <a:off x="6340320" y="2506680"/>
            <a:ext cx="984240" cy="13122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IR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lue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I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S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EGA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DS-W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VIEW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341280" y="548964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3"/>
          <p:cNvSpPr/>
          <p:nvPr/>
        </p:nvSpPr>
        <p:spPr>
          <a:xfrm>
            <a:off x="398520" y="460692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4"/>
          <p:cNvSpPr/>
          <p:nvPr/>
        </p:nvSpPr>
        <p:spPr>
          <a:xfrm>
            <a:off x="324000" y="3695760"/>
            <a:ext cx="10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6"/>
          <p:cNvSpPr/>
          <p:nvPr/>
        </p:nvSpPr>
        <p:spPr>
          <a:xfrm>
            <a:off x="353880" y="273384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g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n 2"/>
          <p:cNvSpPr/>
          <p:nvPr/>
        </p:nvSpPr>
        <p:spPr>
          <a:xfrm>
            <a:off x="3733920" y="3036960"/>
            <a:ext cx="1805040" cy="2979720"/>
          </a:xfrm>
          <a:prstGeom prst="can">
            <a:avLst>
              <a:gd name="adj" fmla="val 15143"/>
            </a:avLst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50" descr=""/>
          <p:cNvPicPr/>
          <p:nvPr/>
        </p:nvPicPr>
        <p:blipFill>
          <a:blip r:embed="rId5"/>
          <a:stretch/>
        </p:blipFill>
        <p:spPr>
          <a:xfrm>
            <a:off x="4145040" y="4224240"/>
            <a:ext cx="1084320" cy="741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"/>
          <p:cNvPicPr/>
          <p:nvPr/>
        </p:nvPicPr>
        <p:blipFill>
          <a:blip r:embed="rId6"/>
          <a:stretch/>
        </p:blipFill>
        <p:spPr>
          <a:xfrm>
            <a:off x="4335480" y="3162240"/>
            <a:ext cx="631800" cy="4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0" name="Picture 5" descr=""/>
          <p:cNvPicPr/>
          <p:nvPr/>
        </p:nvPicPr>
        <p:blipFill>
          <a:blip r:embed="rId7"/>
          <a:stretch/>
        </p:blipFill>
        <p:spPr>
          <a:xfrm>
            <a:off x="4119480" y="5094360"/>
            <a:ext cx="1109880" cy="8031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47"/>
          <p:cNvSpPr/>
          <p:nvPr/>
        </p:nvSpPr>
        <p:spPr>
          <a:xfrm>
            <a:off x="3736800" y="3611520"/>
            <a:ext cx="1845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7716960" y="1833480"/>
            <a:ext cx="128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Societal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"/>
          <p:cNvSpPr/>
          <p:nvPr/>
        </p:nvSpPr>
        <p:spPr>
          <a:xfrm>
            <a:off x="6346800" y="4451400"/>
            <a:ext cx="949320" cy="146448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C&amp;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eroCOM AQ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QMEII CCI-Aerosol PEGASOS TF-HT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thers 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1"/>
          <p:cNvSpPr/>
          <p:nvPr/>
        </p:nvSpPr>
        <p:spPr>
          <a:xfrm>
            <a:off x="3108240" y="2311560"/>
            <a:ext cx="3063960" cy="5508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 | AQ_CoP | B.GN | CHIST |CIERA | COST |CyAir DataONE | EANET | EGIDA | ESIP | EuroGEOSS | INSPIRE | MaleDecl | QA4E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6343560" y="1986120"/>
            <a:ext cx="981000" cy="55224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7840800" y="281304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ing the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7840800" y="358776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tecting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7846920" y="5208480"/>
            <a:ext cx="101448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lobal Pol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7848720" y="438768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mosph.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00080" y="6095880"/>
            <a:ext cx="8912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05300"/>
                </a:solidFill>
                <a:latin typeface="Verdana"/>
                <a:ea typeface="Verdana"/>
              </a:rPr>
              <a:t>Integrating Initiatives/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are the main clients and users of the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7"/>
          <p:cNvSpPr/>
          <p:nvPr/>
        </p:nvSpPr>
        <p:spPr>
          <a:xfrm>
            <a:off x="6346800" y="3948120"/>
            <a:ext cx="981000" cy="55260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1889280" y="1954080"/>
            <a:ext cx="981000" cy="55260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7"/>
          <p:cNvSpPr/>
          <p:nvPr/>
        </p:nvSpPr>
        <p:spPr>
          <a:xfrm>
            <a:off x="3100320" y="1935000"/>
            <a:ext cx="3063960" cy="36864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il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2:13:07Z</dcterms:created>
  <dc:creator>Rudy Husar</dc:creator>
  <dc:description/>
  <dc:language>en-US</dc:language>
  <cp:lastModifiedBy>Rudy Husar</cp:lastModifiedBy>
  <dcterms:modified xsi:type="dcterms:W3CDTF">2011-07-18T15:14:21Z</dcterms:modified>
  <cp:revision>117</cp:revision>
  <dc:subject/>
  <dc:title>Slide 1</dc:title>
</cp:coreProperties>
</file>